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F1E-7EC0-4E75-BA64-CA09FB36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D28-6D07-468C-B4F0-97E0235F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A99-783B-4C9C-AEB4-EB907FB0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A89-B4BD-4DF9-9849-3F02FDDD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D79-B803-40DA-8137-CCCEC926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E19-A9D4-40CE-827A-B0036864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B63-7307-497A-A07C-2EA08EB6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352-B651-4021-AD96-043EF3EE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69F-0706-4504-A180-68F59C2D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C85-B25E-4A5F-9AAB-90BE373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951-2AFF-49AE-BF3A-983382A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D44-A5DA-48B4-97E6-12FBF693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E69F-B057-45E4-A8E8-40B70C5F8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90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7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Рисунок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00000" y="1173240"/>
            <a:ext cx="74170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 гостях у сказки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45" name="Picture 9" descr="2294620b0aq16coso"/>
          <p:cNvPicPr/>
          <p:nvPr/>
        </p:nvPicPr>
        <p:blipFill>
          <a:blip r:embed="rId2"/>
          <a:stretch/>
        </p:blipFill>
        <p:spPr>
          <a:xfrm>
            <a:off x="5076720" y="3432240"/>
            <a:ext cx="3176640" cy="224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est2"/>
          <p:cNvPicPr/>
          <p:nvPr/>
        </p:nvPicPr>
        <p:blipFill>
          <a:blip r:embed="rId3"/>
          <a:stretch/>
        </p:blipFill>
        <p:spPr>
          <a:xfrm rot="21355200">
            <a:off x="4285800" y="4649400"/>
            <a:ext cx="2739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Телеграмма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зови сказку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и героя сказки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Блиц-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турнир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5-4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826920" y="1484280"/>
            <a:ext cx="7561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7" descr="G1_Writing"/>
          <p:cNvPicPr/>
          <p:nvPr/>
        </p:nvPicPr>
        <p:blipFill>
          <a:blip r:embed="rId2"/>
          <a:stretch/>
        </p:blipFill>
        <p:spPr>
          <a:xfrm>
            <a:off x="7061040" y="4437000"/>
            <a:ext cx="162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Игра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Доскажи словечко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Волшебный сундучок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jhealth.ru/wp-content/uploads/2010/12/images-31.jpg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room.ru/userimg/forum/1259707522.jpg"/>
          <p:cNvPicPr/>
          <p:nvPr/>
        </p:nvPicPr>
        <p:blipFill>
          <a:blip r:embed="rId2"/>
          <a:stretch/>
        </p:blipFill>
        <p:spPr>
          <a:xfrm>
            <a:off x="0" y="0"/>
            <a:ext cx="9129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slide0021_image023.jpg (567×49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go1.imgsmail.ru/imgpreview?key=635a013b68c40527&amp;mb=imgdb_preview_450"/>
          <p:cNvPicPr/>
          <p:nvPr/>
        </p:nvPicPr>
        <p:blipFill>
          <a:blip r:embed="rId2"/>
          <a:stretch/>
        </p:blipFill>
        <p:spPr>
          <a:xfrm>
            <a:off x="0" y="-15840"/>
            <a:ext cx="92203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9IL_VSopnww.jpg.pagespeed.ce.Ukc2T-_BYn.jpg (604×6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йди героя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7:52:02Z</dcterms:created>
  <dc:creator>Владос</dc:creator>
  <dc:description/>
  <dc:language>en-US</dc:language>
  <cp:lastModifiedBy>Таня</cp:lastModifiedBy>
  <dcterms:modified xsi:type="dcterms:W3CDTF">2015-02-19T14:30:04Z</dcterms:modified>
  <cp:revision>17</cp:revision>
  <dc:subject/>
  <dc:title>Слайд 1</dc:title>
</cp:coreProperties>
</file>