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012-73DC-4C9B-9A80-5B011F9A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0F3-0310-4689-91A8-71C19B39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B92-6CD3-45DF-93D7-6561215D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214-9349-41B7-A189-BE1A79A8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4F1-AFE8-4DC8-9BE6-26246A9F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72E-814F-45C8-AD76-0EC80A4A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113-6115-4867-BDE7-F478C79C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3CB-B320-4F14-94D6-76EBD64A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739-F397-4E89-AA51-EE6F842B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99B-31A3-4C95-8DDF-F1C2E20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5F1-7024-499F-B803-94686DC0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CDF-A503-437F-B53C-CC67088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231C-F0C4-47D4-B38C-74A662A14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90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7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Рисунок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00000" y="1173240"/>
            <a:ext cx="74170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 гостях у сказки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45" name="Picture 9" descr="2294620b0aq16coso"/>
          <p:cNvPicPr/>
          <p:nvPr/>
        </p:nvPicPr>
        <p:blipFill>
          <a:blip r:embed="rId2"/>
          <a:stretch/>
        </p:blipFill>
        <p:spPr>
          <a:xfrm>
            <a:off x="5076720" y="3432240"/>
            <a:ext cx="3176640" cy="224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est2"/>
          <p:cNvPicPr/>
          <p:nvPr/>
        </p:nvPicPr>
        <p:blipFill>
          <a:blip r:embed="rId3"/>
          <a:stretch/>
        </p:blipFill>
        <p:spPr>
          <a:xfrm rot="21355200">
            <a:off x="4285800" y="4649400"/>
            <a:ext cx="2739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Телеграмма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зови сказку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и героя сказки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Блиц-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турнир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5-4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826920" y="1484280"/>
            <a:ext cx="7561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7" descr="G1_Writing"/>
          <p:cNvPicPr/>
          <p:nvPr/>
        </p:nvPicPr>
        <p:blipFill>
          <a:blip r:embed="rId2"/>
          <a:stretch/>
        </p:blipFill>
        <p:spPr>
          <a:xfrm>
            <a:off x="7061040" y="4437000"/>
            <a:ext cx="162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Игра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Доскажи словечко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Волшебный сундучок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jhealth.ru/wp-content/uploads/2010/12/images-31.jpg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room.ru/userimg/forum/1259707522.jpg"/>
          <p:cNvPicPr/>
          <p:nvPr/>
        </p:nvPicPr>
        <p:blipFill>
          <a:blip r:embed="rId2"/>
          <a:stretch/>
        </p:blipFill>
        <p:spPr>
          <a:xfrm>
            <a:off x="0" y="0"/>
            <a:ext cx="9129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slide0021_image023.jpg (567×49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go1.imgsmail.ru/imgpreview?key=635a013b68c40527&amp;mb=imgdb_preview_450"/>
          <p:cNvPicPr/>
          <p:nvPr/>
        </p:nvPicPr>
        <p:blipFill>
          <a:blip r:embed="rId2"/>
          <a:stretch/>
        </p:blipFill>
        <p:spPr>
          <a:xfrm>
            <a:off x="0" y="-15840"/>
            <a:ext cx="92203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9IL_VSopnww.jpg.pagespeed.ce.Ukc2T-_BYn.jpg (604×6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йди героя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7:52:02Z</dcterms:created>
  <dc:creator>Владос</dc:creator>
  <dc:description/>
  <dc:language>en-US</dc:language>
  <cp:lastModifiedBy>Таня</cp:lastModifiedBy>
  <dcterms:modified xsi:type="dcterms:W3CDTF">2015-02-19T14:30:04Z</dcterms:modified>
  <cp:revision>17</cp:revision>
  <dc:subject/>
  <dc:title>Слайд 1</dc:title>
</cp:coreProperties>
</file>