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2A5-26A8-4980-AE7C-73A4D632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754-C012-441A-BD97-ACB06C9D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266-05DF-408B-8E17-F13AC45B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A54-3876-49D3-9C2B-BEDC118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0FB-4AE0-4250-BCB5-4601EBC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FC8-CED8-4DBB-BEA3-D532396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19A-8395-4421-889A-E8B049A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080-FC78-411C-A11D-B5C541A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8F0-08FB-4A1F-9EB4-4DC19217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4A7-6D84-4E50-A5C5-53240E5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823-EFCD-4A37-AC24-2490C33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A3D-C625-4B0F-86D5-A786F68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1D6-A989-43DA-BF24-6B4059193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90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7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Рисунок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00000" y="1173240"/>
            <a:ext cx="74170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В гостях у сказки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pic>
        <p:nvPicPr>
          <p:cNvPr id="45" name="Picture 9" descr="2294620b0aq16coso"/>
          <p:cNvPicPr/>
          <p:nvPr/>
        </p:nvPicPr>
        <p:blipFill>
          <a:blip r:embed="rId2"/>
          <a:stretch/>
        </p:blipFill>
        <p:spPr>
          <a:xfrm>
            <a:off x="5076720" y="3432240"/>
            <a:ext cx="3176640" cy="224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st2"/>
          <p:cNvPicPr/>
          <p:nvPr/>
        </p:nvPicPr>
        <p:blipFill>
          <a:blip r:embed="rId3"/>
          <a:stretch/>
        </p:blipFill>
        <p:spPr>
          <a:xfrm rot="21355200">
            <a:off x="4285800" y="4649400"/>
            <a:ext cx="2739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Телеграмма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зови сказку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и героя сказки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Блиц-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турнир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5-4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26920" y="1484280"/>
            <a:ext cx="7561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G1_Writing"/>
          <p:cNvPicPr/>
          <p:nvPr/>
        </p:nvPicPr>
        <p:blipFill>
          <a:blip r:embed="rId2"/>
          <a:stretch/>
        </p:blipFill>
        <p:spPr>
          <a:xfrm>
            <a:off x="7061040" y="4437000"/>
            <a:ext cx="162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Игра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Доскажи словечко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Волшебный сундучок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jhealth.ru/wp-content/uploads/2010/12/images-31.jpg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room.ru/userimg/forum/1259707522.jpg"/>
          <p:cNvPicPr/>
          <p:nvPr/>
        </p:nvPicPr>
        <p:blipFill>
          <a:blip r:embed="rId2"/>
          <a:stretch/>
        </p:blipFill>
        <p:spPr>
          <a:xfrm>
            <a:off x="0" y="0"/>
            <a:ext cx="9129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slide0021_image023.jpg (567×491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go1.imgsmail.ru/imgpreview?key=635a013b68c40527&amp;mb=imgdb_preview_450"/>
          <p:cNvPicPr/>
          <p:nvPr/>
        </p:nvPicPr>
        <p:blipFill>
          <a:blip r:embed="rId2"/>
          <a:stretch/>
        </p:blipFill>
        <p:spPr>
          <a:xfrm>
            <a:off x="0" y="-15840"/>
            <a:ext cx="9220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9IL_VSopnww.jpg.pagespeed.ce.Ukc2T-_BYn.jpg (604×604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79-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468360" y="76500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Конкурс 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«Найди героя»</a:t>
            </a:r>
            <a:endParaRPr b="0" lang="en-US" sz="5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1280" y="2421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7:52:02Z</dcterms:created>
  <dc:creator>Владос</dc:creator>
  <dc:description/>
  <dc:language>en-US</dc:language>
  <cp:lastModifiedBy>Таня</cp:lastModifiedBy>
  <dcterms:modified xsi:type="dcterms:W3CDTF">2015-02-19T14:30:04Z</dcterms:modified>
  <cp:revision>17</cp:revision>
  <dc:subject/>
  <dc:title>Слайд 1</dc:title>
</cp:coreProperties>
</file>