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3928-B88F-4875-B7E5-2401CD8D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DC2A-3D71-41C4-8CED-532C1A39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E2D-2A5A-48B0-83AA-6F18909B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CCB-90A7-4FCD-98AF-E4D32E70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97A0-D0BF-43B2-AF38-FB787469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7388-A9B5-4AD3-9F45-D0497090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0F08-ADC5-4A04-A8FA-C287E0B4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52B-1A43-41CF-B736-4E8278A9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2B7A-90E9-4673-9A69-286BDEEB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4E3D-4A5A-4AAF-A93F-0DFF9B29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9C7-1CA2-404F-9456-5E270017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295-2CFA-487B-BD80-F668492D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4E72-1B19-4DCD-B6AE-BAF43BE55A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890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17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Рисунок2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900000" y="1173240"/>
            <a:ext cx="741708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В гостях у сказки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pic>
        <p:nvPicPr>
          <p:cNvPr id="45" name="Picture 9" descr="2294620b0aq16coso"/>
          <p:cNvPicPr/>
          <p:nvPr/>
        </p:nvPicPr>
        <p:blipFill>
          <a:blip r:embed="rId2"/>
          <a:stretch/>
        </p:blipFill>
        <p:spPr>
          <a:xfrm>
            <a:off x="5076720" y="3432240"/>
            <a:ext cx="3176640" cy="2246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gest2"/>
          <p:cNvPicPr/>
          <p:nvPr/>
        </p:nvPicPr>
        <p:blipFill>
          <a:blip r:embed="rId3"/>
          <a:stretch/>
        </p:blipFill>
        <p:spPr>
          <a:xfrm rot="21355200">
            <a:off x="4285800" y="4649400"/>
            <a:ext cx="27399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7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Телеграмма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0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Назови сказку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и героя сказки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3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Блиц-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турнир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65-4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76" name="WordArt 5"/>
          <p:cNvSpPr txBox="1"/>
          <p:nvPr/>
        </p:nvSpPr>
        <p:spPr>
          <a:xfrm>
            <a:off x="826920" y="1484280"/>
            <a:ext cx="75614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7" descr="G1_Writing"/>
          <p:cNvPicPr/>
          <p:nvPr/>
        </p:nvPicPr>
        <p:blipFill>
          <a:blip r:embed="rId2"/>
          <a:stretch/>
        </p:blipFill>
        <p:spPr>
          <a:xfrm>
            <a:off x="7061040" y="4437000"/>
            <a:ext cx="16272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8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Игра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Доскажи словечко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Волшебный сундучок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jhealth.ru/wp-content/uploads/2010/12/images-31.jpg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wroom.ru/userimg/forum/1259707522.jpg"/>
          <p:cNvPicPr/>
          <p:nvPr/>
        </p:nvPicPr>
        <p:blipFill>
          <a:blip r:embed="rId2"/>
          <a:stretch/>
        </p:blipFill>
        <p:spPr>
          <a:xfrm>
            <a:off x="0" y="0"/>
            <a:ext cx="91296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slide0021_image023.jpg (567×491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go1.imgsmail.ru/imgpreview?key=635a013b68c40527&amp;mb=imgdb_preview_450"/>
          <p:cNvPicPr/>
          <p:nvPr/>
        </p:nvPicPr>
        <p:blipFill>
          <a:blip r:embed="rId2"/>
          <a:stretch/>
        </p:blipFill>
        <p:spPr>
          <a:xfrm>
            <a:off x="0" y="-15840"/>
            <a:ext cx="92203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9IL_VSopnww.jpg.pagespeed.ce.Ukc2T-_BYn.jpg (604×604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4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Найди героя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7:52:02Z</dcterms:created>
  <dc:creator>Владос</dc:creator>
  <dc:description/>
  <dc:language>en-US</dc:language>
  <cp:lastModifiedBy>Таня</cp:lastModifiedBy>
  <dcterms:modified xsi:type="dcterms:W3CDTF">2015-02-19T14:30:04Z</dcterms:modified>
  <cp:revision>17</cp:revision>
  <dc:subject/>
  <dc:title>Слайд 1</dc:title>
</cp:coreProperties>
</file>