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A746-7CC4-4629-8395-9654DFC618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3926-116E-437C-930F-A56C530F4C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E95A-6F39-4F16-B51A-836B1FB574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7B14-111E-4CE2-BEA2-68112E5A42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0D89-4973-4CD3-9F64-3C618888F0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F601-CD3C-40A3-AD63-8B12C5B55E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78C5-22D1-481C-BB29-C6F16ECF57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3AC7-6424-4BF2-9BA3-9EBC6430FC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2372-92C2-42E9-8C9D-9335AAD900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0913-B4B1-4592-940E-3769872686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4B97-4A85-402E-8ED0-A247275FF1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C15C-927D-4F6E-A9CC-46B51EF0F9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86F-6233-418D-B16C-B387F635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DA3-288E-478D-B86E-A224EDD5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EE95-1649-4533-8EE2-DC7E4204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9478-00CF-4DA8-B2AD-4997B784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F89-7124-4E6D-938B-058A6757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CA51-0155-4D79-B910-DF8EA3B9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18CC-D0B4-427E-AF65-724F886F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5B3-AB36-4249-9446-658D753E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F69-29B9-45A5-BDEE-3126A649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0AE-5B3C-4510-86D9-45DF0FF5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40E2-6196-414B-B177-3E5D1F3A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E03-F1D5-4A2B-BED3-0C5DB13B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6780-299D-4DBE-82CF-2A0DCBA642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" Target="slide1.xm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" Target="slide1.xm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0360" y="278136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Неделя литературы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«В гостях у сказк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А за ним – то народ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И поёт, и орёт: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- Вот урод, так урод!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Что за нос, что за рот!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И откуда такое…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ЧУДОВИЩЕ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10"/>
          <a:stretch/>
        </p:blipFill>
        <p:spPr>
          <a:xfrm>
            <a:off x="2670120" y="789120"/>
            <a:ext cx="373212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Солнце по небу гуляло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И за тучку забежало.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Глянул заинька в окно,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Стало заиньке…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ТЕМНО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10"/>
          <a:stretch/>
        </p:blipFill>
        <p:spPr>
          <a:xfrm>
            <a:off x="2627280" y="808200"/>
            <a:ext cx="367344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Свинки замяукали – 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мяу – мяу,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ошечки…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ЗАХРЮКАЛИ,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ХРЮ-ХР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10"/>
          <a:stretch/>
        </p:blipFill>
        <p:spPr>
          <a:xfrm>
            <a:off x="2627280" y="941400"/>
            <a:ext cx="38163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21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Творческое задани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680" y="1356840"/>
            <a:ext cx="781200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то это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200px-Chukovsky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916360" y="2023920"/>
            <a:ext cx="346680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30360" y="1856880"/>
            <a:ext cx="781200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орней Иванович Чуковский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200px-Chukovsky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042920" y="2370240"/>
            <a:ext cx="2540160" cy="3009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3597120" y="2338560"/>
            <a:ext cx="414360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84807"/>
                </a:solidFill>
                <a:latin typeface="Calibri"/>
              </a:rPr>
              <a:t>Родился 31 марта 1882 г. в Санкт-Петербурге. С детства увлекался поэзией, писал стихи и даже поэмы. Он любил писать сказки для дете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7720" y="292428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акие сказки Чуковского  вы знаете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7720" y="292428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Вспомни, какими словами оканчивается строчка, и назови сказк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Веселится народ-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Муха замуж идёт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За лихого, удалого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Молодого…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КОМАРА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10"/>
          <a:srcRect l="0" t="0" r="0" b="7503"/>
          <a:stretch/>
        </p:blipFill>
        <p:spPr>
          <a:xfrm>
            <a:off x="2708280" y="905040"/>
            <a:ext cx="3745080" cy="503064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Нет - нет! Соловей Не поёт для свиней Позови –ка лучше…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ВОРОНУ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10"/>
          <a:srcRect l="0" t="0" r="0" b="6972"/>
          <a:stretch/>
        </p:blipFill>
        <p:spPr>
          <a:xfrm>
            <a:off x="2465280" y="803160"/>
            <a:ext cx="4141800" cy="523728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5:35:16Z</dcterms:created>
  <dc:creator>Светик</dc:creator>
  <dc:description/>
  <dc:language>en-US</dc:language>
  <cp:lastModifiedBy>Таня</cp:lastModifiedBy>
  <dcterms:modified xsi:type="dcterms:W3CDTF">2015-02-17T04:23:12Z</dcterms:modified>
  <cp:revision>74</cp:revision>
  <dc:subject/>
  <dc:title>Сказка К.Чуковского «Бармалей»</dc:title>
</cp:coreProperties>
</file>