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05FB-46C8-40C4-A9C7-EC85B4DDE86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139D-FD11-4806-B4BA-2FCB21B93C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098F-7545-4E5E-967E-FAAC6E12D1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1F5F-E7B1-4D34-8ADF-AE004CC374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6B19-97C9-4714-AB88-590E082A68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88A7-62FD-4C27-A874-B2F807561AD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B16C-83B4-40BF-A15C-2C5A1D5789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0420-7946-4E02-8580-A25E379A8E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1010-1827-4362-9F3F-D0A539F4CB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D626-2B2D-4CD1-867B-379C504574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B9E3-8012-40B5-9F39-1FACF28EC54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A717-66A8-4F90-8BB4-CD8727DB45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E805-ECA2-4548-872D-7DC0EC62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8BE-65C5-4EA2-AB82-AE8D67E7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B2FA-BE77-40B8-9551-E8BF77C5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5807-BADA-4617-B614-7E276F21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047B-C0C5-438B-B394-45B1D26A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423-26C3-4E44-9CAE-140BBF2A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3C98-ACAC-43E3-8FF9-EADA2DFB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743F-B35F-4C9E-8681-1E16E1BB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6DAA-9B68-4DCC-A3DE-D719BA2C3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DB83-E895-4F2D-9CDB-75F2965E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5C3-9F43-4F4E-B3D2-45B94D5A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C35F-52C6-46BF-B6C4-E9CDC824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1407-FA74-43A5-9EA6-242F4708F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360" y="278136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деля литературы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«В гостях у сказ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А за ним – то народ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поёт, и орёт: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- Вот урод, так урод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то за нос, что за рот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откуда такое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УДОВИЩ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10"/>
          <a:stretch/>
        </p:blipFill>
        <p:spPr>
          <a:xfrm>
            <a:off x="2670120" y="789120"/>
            <a:ext cx="3732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олнце по небу гулял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за тучку забежало.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Глянул заинька в окно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тало заиньке…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ЕМН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10"/>
          <a:stretch/>
        </p:blipFill>
        <p:spPr>
          <a:xfrm>
            <a:off x="2627280" y="808200"/>
            <a:ext cx="3673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винки замяукали – 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яу – мяу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шечки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АХРЮКАЛИ,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РЮ-ХР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10"/>
          <a:stretch/>
        </p:blipFill>
        <p:spPr>
          <a:xfrm>
            <a:off x="2627280" y="941400"/>
            <a:ext cx="3816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Творческое зад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то это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916360" y="2023920"/>
            <a:ext cx="346680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0360" y="185688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рней Иванович Чуковски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042920" y="2370240"/>
            <a:ext cx="2540160" cy="3009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597120" y="2338560"/>
            <a:ext cx="41436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84807"/>
                </a:solidFill>
                <a:latin typeface="Calibri"/>
              </a:rPr>
              <a:t>Родился 31 марта 1882 г. в Санкт-Петербурге. С детства увлекался поэзией, писал стихи и даже поэмы. Он любил писать сказки для дет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акие сказки Чуковского  вы знает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спомни, какими словами оканчивается строчка, и назови сказ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еселится народ-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уха замуж идёт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За лихого, удалог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олодого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ОМАРА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10"/>
          <a:srcRect l="0" t="0" r="0" b="7503"/>
          <a:stretch/>
        </p:blipFill>
        <p:spPr>
          <a:xfrm>
            <a:off x="2708280" y="905040"/>
            <a:ext cx="3745080" cy="503064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т - нет! Соловей Не поёт для свиней Позови –ка лучше…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ОРОНУ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10"/>
          <a:srcRect l="0" t="0" r="0" b="6972"/>
          <a:stretch/>
        </p:blipFill>
        <p:spPr>
          <a:xfrm>
            <a:off x="2465280" y="803160"/>
            <a:ext cx="4141800" cy="523728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5:35:16Z</dcterms:created>
  <dc:creator>Светик</dc:creator>
  <dc:description/>
  <dc:language>en-US</dc:language>
  <cp:lastModifiedBy>Таня</cp:lastModifiedBy>
  <dcterms:modified xsi:type="dcterms:W3CDTF">2015-02-17T04:23:12Z</dcterms:modified>
  <cp:revision>74</cp:revision>
  <dc:subject/>
  <dc:title>Сказка К.Чуковского «Бармалей»</dc:title>
</cp:coreProperties>
</file>